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D0FF-702A-4208-84A8-E26F2B22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D197-6665-4E8D-87A4-0CABBAB4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0B52-268B-4CA4-B0F4-6C400268A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84D0-B10D-4F47-93DA-E9CB9252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0879-CD89-4A19-A398-D38AEE5F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A358-B185-443D-904A-9DDBA6F6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F396-9C0F-4C25-B435-8D17F2A0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895A-D3C9-4758-9AEA-17C45A89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75CD-E68C-4BFF-B174-B63CC2FA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0AF4-A70B-4EA6-84C4-A0A853B8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DC0A-8AEF-4DFE-9887-6727AE87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C811-671C-4CB3-996E-D02F37A3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7706-AEE6-476E-AE08-04130B03F5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грисане 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мске студије фармације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а фармациј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I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84360" y="2852640"/>
            <a:ext cx="777240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Гојазност - лече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371600" y="54864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dr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ушан Ђур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Лабораторијске анализе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минимум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85480" y="1357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ликемија наш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фил серумских липида (укупни , HDL и LDL холестерол, триглицерид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окраћна кисел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Функције тиреодеје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(thyroid-stimulating hormone (TSH) leve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Функције јет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ардиоваскуларна процена, уколико је индикова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ндокрина испитивања ако се сумња на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ushing’s syndro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и обољења хипоталаму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одатни прегледи јетре уколико су налази ензима јетре патолошки (ултразвук, биопсиј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омнолошка испитив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Третмани о којима треба разговарати са пацијент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4809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479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I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</a:t>
                      </a: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/m</a:t>
                      </a:r>
                      <a:r>
                        <a:rPr b="1" lang="sr-Latn-RS" sz="2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им струка, </a:t>
                      </a: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орбид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7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 &lt; 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≥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 &lt; 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≥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5 – 29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Ж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Ж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ЖС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±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 – 34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Ж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ЖС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±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ЖС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±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Л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±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0 – 39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ЖС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±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ЖС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±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ЖС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±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Л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±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≥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ЖС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±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Л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±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ЖС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±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Л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±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ЖС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±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Л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±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703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ЖС – измена животног сти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 - леко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 - хирург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Лечењ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мене понашања и животних нав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ије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Физичко вежб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Леко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Хирург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Фармаколошки третм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147492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Разумна стратегија управљања болешћу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Да пацијент одржи комплијансу, смањи ризике условљене гојазношћу и побољша квалитет живот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Превенција развоја коморбидитета (ДМ2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Препоручује се пацијентима са BMI ≥ 30 kg/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или BMI ≥ 27 kg/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гојазношћу условљеним обољењима ( хипертензија,  ДМ2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leep apnoe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Лекове користити према регистрованим индикацијама уз поштовање контраиндикациј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Делотворност фармакотерапије процењивати после прва 3 месец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Ако је губитак тежине задовољавајући (&lt; 5% за недијабетичне пацијенте и &gt; 3% за дијабетичне) третман наставит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Третман обуставити у случају да пацијенти не реагују на терапију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Лекови који се кори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рлист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Лоркасер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Фентермин/топирам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упропион/налтрекс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Лираглути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Орлиста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тентан и селективан инхибитор панкреатичне липаз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едукује интестиналну дигестију ма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а проскрипцију од 120 mg, ОТЦ од 60 mg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ба дозна облика примењена пре јела уз поштовање нутритивних препорука узрокују губитак телесне мас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елотворност и безбедност лека процењивани у рандоминизованим клиничким истраживањима: XENDOS и X-PER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Фекални губитак масти и гастроинтестинални симптоми су че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Може узроковати мањи губитак липосолубилних витамина, па је пожељна додатна мултивитаминска проскрипциј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Лоркасерин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еротонин тип 2C  рецептор агонист са хипофагним ефекто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а тржишту USA од 2013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епоручена доза је 10 mg два пута дневн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 оквиру регистрационих индикација неопходно је да применом лека пацијент изгуби 5% тежине после 12 недеља терапије. Уколико пацијент не оствари предвиђене циљеве лек се укид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елотворност и безбедност лека процењивани у рандоминизованим клиничким истраживањима BLOOM , BLOOM-DM и BLOSSOM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 клиничком испитивању BLOOM-DM, нивои глукозе наште и хемоглобина 1C (HbA1c) су се кориговал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татистички значајна разлика није регистрована у инциденци срчане валвулопатије између лоркасерин и плацебо груп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ајчешћа нежељена дејства услед примене лоркасерина су замагљен вид, вртоглавица, поспаност, гастроинтестиналне тегобе, наузеј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 току клиничко истраживање CAMELLIA TIMI 61 процењује улогу лоркасерина код гојазних дијабетичних пацијената на КВС ризи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Фентермин/топирамат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омбинација фентермина и топирамата (фармацеутски облик са продуженим ослобађањем)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HEN/TPM-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се заснива на принципу синергистичког деловања, где употребом два лека се постиже делотворност при нижим дозама са мањом токсичношћ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Фентермин је атипични амфетамински аналог, који врши супресију апетита норадренергичким агонистичким деловањем на ЦНС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Топирамат је атипични антиконвулзивни лек, једини антиепилептик који доводи до снижења телесне масе код пацијената са епилепсиј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Механизам којим топирамат доводи до снижења телесне масе је непознат, али могући механизми су; инхибиција укуса угљеном анхидразом ; или утицаји на GABA трансмисију и редукцију апети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Food and Drug Administration (FDA)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добрење за пуштање у промет 2012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Фентермин/топирамат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епоручена доза фентермин/топирамат - 7.5 mg / 46 mg – једном дневн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 оквиру регистрационих индикација неопходно је да применом лека пацијент изгуби 5% тежине после 12 недеља терапије. Уколико пацијент не оствари предвиђене циљеве лек се укид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елотворност и безбедност лека процењивани у рандоминизованим клиничким истраживањима EQUIP, CONQUER, SEQUEL и EQUAT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ежељена дејства услед примене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PHEN/TPM-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су сува уста, опстипација, несаница, палпитације, вртоглавица, парестезије, поремећаји пажње метаболичка ацидоза, бубрежни каменци, главобоља и дисгеузија (поремећај осета укуса), алопеција и хипокалемиј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онтраиндикован је за примену у трудноћи због тератогеног потенцијала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FORTRESS -Fetal Outcome RetrospectiveTopiRamate Exposure Stud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указала на дефект непца новорођенчади при примени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HEN/TPM-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Бупропион/налтрексон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упропион/налтрексон је комбинација два централно делујућа лека чија употреба је за ову индикацију новијег дату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упропион се користи за терапији депресије и прекида пушењ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еселективни је инхибитор преузимања допамина и норадреналин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алтрексон је антагонист опиоидних рецептора, који се користи у третману синдрома зависности од алкохола и опија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норексогено деловање бупропиона/налтрексона заснива се на активирању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ropiomelanocortin – POMC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еурона у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ucleus arcuatu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OMC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еурони ослобађају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α-melanocyte-stimulating hormone – </a:t>
            </a:r>
            <a:r>
              <a:rPr b="0" i="1" lang="el-GR" sz="20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-MS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анорексигени неуропептид) који делује на нивоу хипоталамуса и утиче на апетит и терморегулациј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омбинација лекова је одобрена FDA – 2012, European Medicinal Agency –EMA – 2016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3"/>
          <p:cNvSpPr/>
          <p:nvPr/>
        </p:nvSpPr>
        <p:spPr>
          <a:xfrm>
            <a:off x="6227640" y="333360"/>
            <a:ext cx="2210040" cy="180972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xperientia docet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inima de mali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176364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Бупропион/налтрексон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/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епоручена доза бупропион/налтрексон - 180 mg / 16 mg – два пута  дневн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 оквиру регистрационих индикација неопходно је да применом лека пацијент изгуби 5% тежине после 12 недеља терапије. Уколико пацијент не оствари предвиђене циљеве лек се укид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елотворност и безбедност лека процењивани у рандоминизованим клиничким истраживањима COR-I, , COR-II , COR-BMOD и COR-DM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ајчешћа нежељена дејства су наузеја (транзиторна, пролази у току прве недеље терапије). Честа нежељена дејства поред главобоље су вртоглавица, несаница и повраћање који су уједно били разлог за обустављање терапиј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 току је истраживање за процену кардиоваскуларног ризика -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Cardiovascular Outcomes Study of Naltrexone SR/Bupropion SR in Overweight and Obese Subjects with Cardiovascular Risk Factors (The Light Study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Лираглутид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85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угоделујући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lukagon-like peptide 1 (GLP-1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гонист за парентералну употребу, који споро метаболишу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ipeptidyl peptidase-IV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Глукозом индуковано ослобађање инсулина је стимулисано; глукагонски одговор је редукован; утицаји на желудачно пражњењ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 употреби је терапију ДМ Т2 (1,2-1,8 mg), једном дневн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Лек је одобрен за ову индикацију FDA – 2014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uropean Medicinal Agenc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EMA – 2015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имењује се парентерално у дози од 3 mg, једном дневн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 оквиру регистрационих индикација неопходно је да применом лека пацијент изгуби 5% тежине после 12 недеља терапије. Уколико пацијент не оствари предвиђене циљеве лек се укид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елотворност и безбедност лека процењивани у рандоминизованим клиничким истраживањима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E-Maintena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E-Obes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EAD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ацијенти лираглутид добро поднес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Мука и повраћање су пролазна нежењена деловања која дају допринос губитку телесне мас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ilustracija3"/>
          <p:cNvPicPr/>
          <p:nvPr/>
        </p:nvPicPr>
        <p:blipFill>
          <a:blip r:embed="rId1"/>
          <a:srcRect l="6228" t="0" r="0" b="0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ilustracija4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3"/>
          <p:cNvSpPr/>
          <p:nvPr/>
        </p:nvSpPr>
        <p:spPr>
          <a:xfrm>
            <a:off x="5643720" y="333360"/>
            <a:ext cx="2793960" cy="216684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</a:rPr>
              <a:t>Искуство је најбољи учитељ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</a:rPr>
              <a:t>Од зала бирај најмањ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100008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Гојазнос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ефиниција и ме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ндекс телесне мас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вален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Физиолошка регулација енергетске равнотеж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пети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трошња енерг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дипоцити и адипозно (масно ткив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Етиологија гојаз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лога гена у односу на окруже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пецифични генетски синдро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индроми повезани са гојазношћ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shingov sind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Хипотиреоидиз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нсулин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раниофарингеом и остали поремећаји који укључују хипоталаму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атогенеза обичне гојаз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Лептин у типичној гојаз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Лепт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сул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олецистокин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анкреасни полипепти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ептид тирози-тироз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лукагону сличан пептид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ксинтомодул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рел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атолошке последице гојаз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езистенција на инсулин и ДМ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ремећаји репродук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рдиоваскуларне бол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лућне бол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Жучни камен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нц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сти, зглобови и кожне бол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намнез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384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тничка припад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родична анмне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авике у исхра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Физичка активност (учесталост и структур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брасци исхране и могући поремећаји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inge eating disorder, night eating syndrome, bulim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исуство депресије и других поремећаја располож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429080" y="1571760"/>
            <a:ext cx="45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стале детерминанте (генетика, лекови, ендокрини поремећаји, психосоцијални фактори, хронични стрес, престанак пушењ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дравствене консеквенце гојазности (промена животног стила, медикаментно лечење, хируршке интервенциј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ацијентова очекивања и мотивација за проме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етходни третман гојаз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Физикални прегле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ерење висине и тежине (ИТМ – израчунати), обим струка, артеријска тензија (адекватна манжетна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цена присуства и значај гојазношћу-условљених обољења (дијабетес, хипертензија, дислипидемија, кардиоваскуларна, респираторна и обољења зглобова, неалкохолна масна јетра, поремећаји спавањ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исуство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canthosis nigrica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ао знак инсулинске резистенциј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ерматоза која се јавља на прегибним површина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 виду  хиперкератозе и хиперпигмента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еравне, набране површине сомотастог изгле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Може се јавити као паранеопластична дерматоза или без постојања малигнит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37:56Z</dcterms:created>
  <dc:creator/>
  <dc:description/>
  <dc:language>en-US</dc:language>
  <cp:lastModifiedBy/>
  <dcterms:modified xsi:type="dcterms:W3CDTF">2020-08-13T10:55:43Z</dcterms:modified>
  <cp:revision>5</cp:revision>
  <dc:subject/>
  <dc:title>Комуникација са пацијентом и другим здравственим радници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59561033</vt:lpwstr>
  </property>
</Properties>
</file>